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4.jpeg" ContentType="image/jpeg"/>
  <Override PartName="/ppt/media/image22.png" ContentType="image/png"/>
  <Override PartName="/ppt/media/image5.png" ContentType="image/png"/>
  <Override PartName="/ppt/media/image23.wmf" ContentType="image/x-wmf"/>
  <Override PartName="/ppt/media/image18.jpeg" ContentType="image/jpeg"/>
  <Override PartName="/ppt/media/image21.png" ContentType="image/png"/>
  <Override PartName="/ppt/media/image20.wmf" ContentType="image/x-wmf"/>
  <Override PartName="/ppt/media/image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3A37-7D3C-4AAA-9C0E-7A14C97B6B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EAA7-2658-4101-9EDE-B0FDC72677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3DE-0120-403F-A3F1-18E6C75C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6F8-8A3B-4483-91FE-760A4356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7FF-8BEA-4A9C-BDFA-41871058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396-4801-4485-9420-4006F6A9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2A1-8586-496B-9DA0-93BDC5BA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FD81-A27E-42AB-8C7A-8EA81D2D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9BC5-52DB-4440-A4B7-574D19F5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7DA7-0D60-48E2-A478-8D393EB9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CE5-FD23-4107-91BA-52A83E70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30BA-636D-4CCD-8527-A69FF123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E6E-DCC2-4283-96F3-9089A83C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58F-25A6-4BBB-B161-49DC932E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7C17-B1A1-4646-9B37-C3A576F5E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4.wmf"/><Relationship Id="rId6" Type="http://schemas.openxmlformats.org/officeDocument/2006/relationships/hyperlink" Target="http://images.google.fr/imgres?imgurl=http://www.osinet.fr/images/euro.jpg&amp;imgrefurl=http://bernard-claverie.blogspot.com/2007/12/le-ministre-de-leconomie-christine.html&amp;usg=__CZJXHHojEGCktlX8--sptmLixX8=&amp;h=581&amp;w=606&amp;sz=23&amp;hl=fr&amp;start=4&amp;sig2=e58FosACEIx-ZsctVfoxTg&amp;tbnid=tGTfkFHtyYvykM:&amp;tbnh=130&amp;tbnw=136&amp;prev=/images%3Fq%3Deuros%26gbv%3D2%26hl%3Dfr&amp;ei=L41gSvwYjOL5Bvyz2IoL" TargetMode="External"/><Relationship Id="rId7" Type="http://schemas.openxmlformats.org/officeDocument/2006/relationships/image" Target="../media/image15.jpeg"/><Relationship Id="rId8" Type="http://schemas.openxmlformats.org/officeDocument/2006/relationships/hyperlink" Target="http://images.google.fr/imgres?imgurl=http://www.osinet.fr/images/euro.jpg&amp;imgrefurl=http://bernard-claverie.blogspot.com/2007/12/le-ministre-de-leconomie-christine.html&amp;usg=__CZJXHHojEGCktlX8--sptmLixX8=&amp;h=581&amp;w=606&amp;sz=23&amp;hl=fr&amp;start=4&amp;sig2=e58FosACEIx-ZsctVfoxTg&amp;tbnid=tGTfkFHtyYvykM:&amp;tbnh=130&amp;tbnw=136&amp;prev=/images%3Fq%3Deuros%26gbv%3D2%26hl%3Dfr&amp;ei=L41gSvwYjOL5Bvyz2IoL" TargetMode="External"/><Relationship Id="rId9" Type="http://schemas.openxmlformats.org/officeDocument/2006/relationships/image" Target="../media/image15.jpeg"/><Relationship Id="rId10" Type="http://schemas.openxmlformats.org/officeDocument/2006/relationships/hyperlink" Target="http://images.google.fr/imgres?imgurl=http://www.snof.org/vue/imagesvision/billet20E.jpg&amp;imgrefurl=http://fr.blog.360.yahoo.com/blog-Wpjvo2slc6.r3KRYTxhW4K6szRQ-%3Fcq%3D1%26tag%3Dargent&amp;usg=__lPnPQWCT8xsdkQ1hLp6xG9jqN1s=&amp;h=242&amp;w=450&amp;sz=15&amp;hl=fr&amp;start=3&amp;sig2=ap8rS-z5kmHN_PUXMtzbmQ&amp;tbnid=d3hfQzrr7Of_NM:&amp;tbnh=68&amp;tbnw=127&amp;prev=/images%3Fq%3Dbillet%26gbv%3D2%26hl%3Dfr&amp;ei=dY1gSu2zOc3o-QbQsbCnCw" TargetMode="External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hyperlink" Target="http://images.google.fr/imgres?imgurl=http://img65.imageshack.us/img65/3715/billet50zw5.jpg&amp;imgrefurl=http://lesrumeursajojo.centerblog.net/3734597-Un-distributeur-de-billets-a-domicile&amp;usg=__l97Bz9ELXL77fV7LHql88-VSDos=&amp;h=248&amp;w=450&amp;sz=26&amp;hl=fr&amp;start=1&amp;sig2=_u1Ck9OvOhj7UIuzD6zEeQ&amp;tbnid=CpeLSer4nNv2_M:&amp;tbnh=70&amp;tbnw=127&amp;prev=/images%3Fq%3Dbillet%2B50%2Beuros%26gbv%3D2%26hl%3Dfr&amp;ei=Ao5gSrLiLs_o-QbI0oSPCw" TargetMode="External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0.wm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4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5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6"/>
          <a:stretch/>
        </p:blipFill>
        <p:spPr>
          <a:xfrm>
            <a:off x="-19080" y="4127400"/>
            <a:ext cx="917568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14"/>
          <p:cNvSpPr/>
          <p:nvPr/>
        </p:nvSpPr>
        <p:spPr>
          <a:xfrm>
            <a:off x="2916360" y="2492280"/>
            <a:ext cx="597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yriad Pro"/>
                <a:ea typeface="宋体"/>
              </a:rPr>
              <a:t>Une mutuelle « santé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yriad Pro"/>
                <a:ea typeface="宋体"/>
              </a:rPr>
              <a:t>est un groupeme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Myriad Pro"/>
                <a:ea typeface="宋体"/>
              </a:rPr>
              <a:t>de personnes organisé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Myriad Pro"/>
                <a:ea typeface="宋体"/>
              </a:rPr>
              <a:t>de façon démocratiqu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Myriad Pro"/>
                <a:ea typeface="宋体"/>
              </a:rPr>
              <a:t>qui garanti à chacun de ses adhé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yriad Pro"/>
                <a:ea typeface="宋体"/>
              </a:rPr>
              <a:t>une protection soci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yriad Pro"/>
                <a:ea typeface="宋体"/>
              </a:rPr>
              <a:t>sans discrimination d'aucune s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395280" y="2924280"/>
            <a:ext cx="2228760" cy="3381120"/>
          </a:xfrm>
          <a:prstGeom prst="rect">
            <a:avLst/>
          </a:prstGeom>
          <a:ln w="0">
            <a:noFill/>
          </a:ln>
        </p:spPr>
      </p:pic>
      <p:sp>
        <p:nvSpPr>
          <p:cNvPr id="56" name="ZoneTexte 13"/>
          <p:cNvSpPr/>
          <p:nvPr/>
        </p:nvSpPr>
        <p:spPr>
          <a:xfrm>
            <a:off x="4140360" y="1052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Qu’est-ce que c’es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13"/>
          <p:cNvSpPr/>
          <p:nvPr/>
        </p:nvSpPr>
        <p:spPr>
          <a:xfrm>
            <a:off x="3348000" y="119700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Je n’en ai pas beso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car je cotise déjà à la sécurité socia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4"/>
          <p:cNvSpPr/>
          <p:nvPr/>
        </p:nvSpPr>
        <p:spPr>
          <a:xfrm>
            <a:off x="971640" y="3068640"/>
            <a:ext cx="410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 Pro"/>
              </a:rPr>
              <a:t>Faux !</a:t>
            </a: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 Tu en as besoi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car la sécu ne te rembour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qu’une partie de tes frais…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Myriad Pro"/>
              </a:rPr>
              <a:t>Le reste est à ta charg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Si tu es adhérent d’une mutuel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tu n’as pas ou peu de f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à payer de ta poch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156360" y="2995560"/>
            <a:ext cx="2185920" cy="288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21264000">
            <a:off x="6588000" y="3573360"/>
            <a:ext cx="1440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040800">
            <a:off x="6372360" y="3642840"/>
            <a:ext cx="19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yriad Pro"/>
              </a:rPr>
              <a:t>Mutuelle du ralli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18"/>
          <p:cNvSpPr/>
          <p:nvPr/>
        </p:nvSpPr>
        <p:spPr>
          <a:xfrm>
            <a:off x="789120" y="2637000"/>
            <a:ext cx="8607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Tu consultes un médecin spécialiste, ça te coûte 35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De combien es-tu remboursé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La Sécurité sociale ne te rembourse que 16,10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Le Ralliement </a:t>
            </a:r>
            <a:r>
              <a:rPr b="0" lang="en-US" sz="2400" spc="-1" strike="noStrike">
                <a:solidFill>
                  <a:srgbClr val="ff0000"/>
                </a:solidFill>
                <a:latin typeface="Myriad Pro"/>
              </a:rPr>
              <a:t>complète </a:t>
            </a: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de 18,40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Ta consultation ne t’aura don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finalement coûté que 0,50 €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796000" y="4005360"/>
            <a:ext cx="2663640" cy="247176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13"/>
          <p:cNvSpPr/>
          <p:nvPr/>
        </p:nvSpPr>
        <p:spPr>
          <a:xfrm>
            <a:off x="4643280" y="9079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Comment ça march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sp>
        <p:nvSpPr>
          <p:cNvPr id="80" name="ZoneTexte 13"/>
          <p:cNvSpPr/>
          <p:nvPr/>
        </p:nvSpPr>
        <p:spPr>
          <a:xfrm>
            <a:off x="4140360" y="90792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Tu as d’autres exempl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95280" y="2565360"/>
            <a:ext cx="8372520" cy="4015440"/>
            <a:chOff x="395280" y="2565360"/>
            <a:chExt cx="8372520" cy="4015440"/>
          </a:xfrm>
        </p:grpSpPr>
        <p:sp>
          <p:nvSpPr>
            <p:cNvPr id="82" name="ZoneTexte 21"/>
            <p:cNvSpPr/>
            <p:nvPr/>
          </p:nvSpPr>
          <p:spPr>
            <a:xfrm>
              <a:off x="5764320" y="5873760"/>
              <a:ext cx="298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4f6228"/>
                  </a:solidFill>
                  <a:latin typeface="Myriad Pro"/>
                </a:rPr>
                <a:t>152,45 € remboursés par 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95280" y="2565360"/>
              <a:ext cx="8372520" cy="4015440"/>
              <a:chOff x="395280" y="2565360"/>
              <a:chExt cx="8372520" cy="4015440"/>
            </a:xfrm>
          </p:grpSpPr>
          <p:pic>
            <p:nvPicPr>
              <p:cNvPr id="84" name="Image 8" descr="carnet_vaccins2.png"/>
              <p:cNvPicPr/>
              <p:nvPr/>
            </p:nvPicPr>
            <p:blipFill>
              <a:blip r:embed="rId5"/>
              <a:stretch/>
            </p:blipFill>
            <p:spPr>
              <a:xfrm>
                <a:off x="831960" y="3760920"/>
                <a:ext cx="193824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Picture 4" descr="http://www.newvision.fr/pics/PKR.gif"/>
              <p:cNvPicPr/>
              <p:nvPr/>
            </p:nvPicPr>
            <p:blipFill>
              <a:blip r:embed="rId6"/>
              <a:stretch/>
            </p:blipFill>
            <p:spPr>
              <a:xfrm>
                <a:off x="6397560" y="3870360"/>
                <a:ext cx="2370240" cy="164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8" descr="http://www.healthofchildren.com/images/gech_0001_0001_0_img0080.jpg"/>
              <p:cNvPicPr/>
              <p:nvPr/>
            </p:nvPicPr>
            <p:blipFill>
              <a:blip r:embed="rId7"/>
              <a:stretch/>
            </p:blipFill>
            <p:spPr>
              <a:xfrm>
                <a:off x="3244680" y="4005360"/>
                <a:ext cx="2695680" cy="157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ZoneTexte 11"/>
              <p:cNvSpPr/>
              <p:nvPr/>
            </p:nvSpPr>
            <p:spPr>
              <a:xfrm>
                <a:off x="3110040" y="2924280"/>
                <a:ext cx="278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Myriad Pro"/>
                  </a:rPr>
                  <a:t>Ta contracep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ZoneTexte 13"/>
              <p:cNvSpPr/>
              <p:nvPr/>
            </p:nvSpPr>
            <p:spPr>
              <a:xfrm>
                <a:off x="6396120" y="2708280"/>
                <a:ext cx="2214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Myriad Pro"/>
                  </a:rPr>
                  <a:t>Ton opération de la myopi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ZoneTexte 14"/>
              <p:cNvSpPr/>
              <p:nvPr/>
            </p:nvSpPr>
            <p:spPr>
              <a:xfrm>
                <a:off x="395280" y="2565360"/>
                <a:ext cx="27860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Myriad Pro"/>
                  </a:rPr>
                  <a:t>Tes vaccins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Myriad Pro"/>
                  </a:rPr>
                  <a:t>pour te voyages internationau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Myriad Pro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lèche vers le bas 15"/>
              <p:cNvSpPr/>
              <p:nvPr/>
            </p:nvSpPr>
            <p:spPr>
              <a:xfrm>
                <a:off x="1609560" y="5445000"/>
                <a:ext cx="285840" cy="42876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92d050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lèche vers le bas 16"/>
              <p:cNvSpPr/>
              <p:nvPr/>
            </p:nvSpPr>
            <p:spPr>
              <a:xfrm>
                <a:off x="7467480" y="5300640"/>
                <a:ext cx="285840" cy="42876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92d050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lèche vers le bas 18"/>
              <p:cNvSpPr/>
              <p:nvPr/>
            </p:nvSpPr>
            <p:spPr>
              <a:xfrm>
                <a:off x="4395960" y="5373720"/>
                <a:ext cx="285480" cy="428760"/>
              </a:xfrm>
              <a:prstGeom prst="downArrow">
                <a:avLst>
                  <a:gd name="adj1" fmla="val 50000"/>
                  <a:gd name="adj2" fmla="val 50063"/>
                </a:avLst>
              </a:prstGeom>
              <a:solidFill>
                <a:srgbClr val="92d050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ZoneTexte 19"/>
              <p:cNvSpPr/>
              <p:nvPr/>
            </p:nvSpPr>
            <p:spPr>
              <a:xfrm>
                <a:off x="609480" y="5875200"/>
                <a:ext cx="2635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4f6228"/>
                    </a:solidFill>
                    <a:latin typeface="Myriad Pro"/>
                  </a:rPr>
                  <a:t>30 € remboursé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4f6228"/>
                    </a:solidFill>
                    <a:latin typeface="Myriad Pro"/>
                  </a:rPr>
                  <a:t>par a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ZoneTexte 19"/>
              <p:cNvSpPr/>
              <p:nvPr/>
            </p:nvSpPr>
            <p:spPr>
              <a:xfrm>
                <a:off x="3244680" y="5877000"/>
                <a:ext cx="263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4f6228"/>
                    </a:solidFill>
                    <a:latin typeface="Myriad Pro"/>
                  </a:rPr>
                  <a:t>30 € remboursé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4f6228"/>
                    </a:solidFill>
                    <a:latin typeface="Myriad Pro"/>
                  </a:rPr>
                  <a:t>par a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 advTm="20000"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97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sp>
        <p:nvSpPr>
          <p:cNvPr id="100" name="ZoneTexte 10"/>
          <p:cNvSpPr/>
          <p:nvPr/>
        </p:nvSpPr>
        <p:spPr>
          <a:xfrm>
            <a:off x="612720" y="2565360"/>
            <a:ext cx="8567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Tu as besoin de lentil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pour six mois elles te coûtent 80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et la Sécurité Sociale ne te rembourse rie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Le </a:t>
            </a:r>
            <a:r>
              <a:rPr b="0" i="1" lang="en-US" sz="2400" spc="-1" strike="noStrike">
                <a:solidFill>
                  <a:srgbClr val="000000"/>
                </a:solidFill>
                <a:latin typeface="Myriad Pro"/>
              </a:rPr>
              <a:t>Ralliement</a:t>
            </a: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 te propose un forfait annu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(lunettes et lentilles) de 152,45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Pour l’anné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tu n’as donc à débour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que </a:t>
            </a:r>
            <a:r>
              <a:rPr b="0" lang="en-US" sz="2400" spc="-1" strike="noStrike">
                <a:solidFill>
                  <a:srgbClr val="ff0000"/>
                </a:solidFill>
                <a:latin typeface="Myriad Pro"/>
              </a:rPr>
              <a:t>7,55€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435640" y="4292640"/>
            <a:ext cx="2649240" cy="2127240"/>
            <a:chOff x="5435640" y="4292640"/>
            <a:chExt cx="2649240" cy="2127240"/>
          </a:xfrm>
        </p:grpSpPr>
        <p:pic>
          <p:nvPicPr>
            <p:cNvPr id="102" name="" descr=""/>
            <p:cNvPicPr/>
            <p:nvPr/>
          </p:nvPicPr>
          <p:blipFill>
            <a:blip r:embed="rId5"/>
            <a:stretch/>
          </p:blipFill>
          <p:spPr>
            <a:xfrm>
              <a:off x="5435640" y="4292640"/>
              <a:ext cx="2593080" cy="21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349400" y="5273280"/>
              <a:ext cx="395640" cy="3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933880" y="4555440"/>
              <a:ext cx="33948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7292160" y="4555440"/>
              <a:ext cx="792720" cy="4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2"/>
            <a:stretch/>
          </p:blipFill>
          <p:spPr>
            <a:xfrm>
              <a:off x="6669000" y="4444560"/>
              <a:ext cx="79272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7349400" y="4941000"/>
              <a:ext cx="66816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5"/>
            <a:stretch/>
          </p:blipFill>
          <p:spPr>
            <a:xfrm>
              <a:off x="6556680" y="4941000"/>
              <a:ext cx="680400" cy="36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ZoneTexte 13"/>
          <p:cNvSpPr/>
          <p:nvPr/>
        </p:nvSpPr>
        <p:spPr>
          <a:xfrm>
            <a:off x="3995640" y="105264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Et les lentilles de contac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112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4"/>
          <p:cNvSpPr/>
          <p:nvPr/>
        </p:nvSpPr>
        <p:spPr>
          <a:xfrm>
            <a:off x="3924360" y="3068640"/>
            <a:ext cx="49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La cotisation annuelle (211,56 €)  est prélevée chaque mois (17,63 €) sur ton compte banc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ou sur celui de tes paren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79280" y="3141720"/>
            <a:ext cx="3529080" cy="2287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7308720" y="5084640"/>
            <a:ext cx="1438560" cy="1335240"/>
          </a:xfrm>
          <a:prstGeom prst="rect">
            <a:avLst/>
          </a:prstGeom>
          <a:ln w="0">
            <a:noFill/>
          </a:ln>
        </p:spPr>
      </p:pic>
      <p:sp>
        <p:nvSpPr>
          <p:cNvPr id="118" name="ZoneTexte 13"/>
          <p:cNvSpPr/>
          <p:nvPr/>
        </p:nvSpPr>
        <p:spPr>
          <a:xfrm>
            <a:off x="3995640" y="1341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Mais combien ça coût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121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9"/>
          <p:cNvSpPr/>
          <p:nvPr/>
        </p:nvSpPr>
        <p:spPr>
          <a:xfrm>
            <a:off x="3276720" y="2441520"/>
            <a:ext cx="5573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Dans ce cas, tu dois y souscrire pendant toute la durée de ton contrat. Si tu es déjà adhérent au </a:t>
            </a:r>
            <a:r>
              <a:rPr b="0" i="1" lang="en-US" sz="2400" spc="-1" strike="noStrike">
                <a:solidFill>
                  <a:srgbClr val="000000"/>
                </a:solidFill>
                <a:latin typeface="Myriad Pro"/>
              </a:rPr>
              <a:t>Ralliement</a:t>
            </a: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, téléphone pour suspendre ta cotisation. Tu pourras la reprend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quand ton contrat sera termin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324000" y="508464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yriad Pro"/>
              </a:rPr>
              <a:t>Si au contraire, ton patron n’a pas de mutuelle d’entrepri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yriad Pro"/>
              </a:rPr>
              <a:t>tu peux lui parler du </a:t>
            </a:r>
            <a:r>
              <a:rPr b="0" i="1" lang="en-US" sz="2400" spc="-1" strike="noStrike">
                <a:solidFill>
                  <a:srgbClr val="ff0000"/>
                </a:solidFill>
                <a:latin typeface="Myriad Pro"/>
              </a:rPr>
              <a:t>Ralliement</a:t>
            </a:r>
            <a:r>
              <a:rPr b="0" lang="en-US" sz="2400" spc="-1" strike="noStrike">
                <a:solidFill>
                  <a:srgbClr val="ff0000"/>
                </a:solidFill>
                <a:latin typeface="Myriad Pro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yriad Pro"/>
              </a:rPr>
              <a:t>notre mutuelle est ouverte à tou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11280" y="2997360"/>
            <a:ext cx="2160360" cy="1920600"/>
          </a:xfrm>
          <a:prstGeom prst="rect">
            <a:avLst/>
          </a:prstGeom>
          <a:ln w="0">
            <a:noFill/>
          </a:ln>
        </p:spPr>
      </p:pic>
      <p:sp>
        <p:nvSpPr>
          <p:cNvPr id="127" name="ZoneTexte 13"/>
          <p:cNvSpPr/>
          <p:nvPr/>
        </p:nvSpPr>
        <p:spPr>
          <a:xfrm>
            <a:off x="3995640" y="1268280"/>
            <a:ext cx="42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Mais mon patron m’impose une mutuelle d’entreprise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130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9"/>
          <p:cNvSpPr/>
          <p:nvPr/>
        </p:nvSpPr>
        <p:spPr>
          <a:xfrm>
            <a:off x="3059280" y="2781360"/>
            <a:ext cx="579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Dans chaque Maison des Compagnons, il y a un gâcheur de la mutu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Renseignes-toi pour savo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qui est responsable de cette gâch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S’il n’y en a pas, tu peux en prend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la responsabi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3"/>
          <p:cNvSpPr/>
          <p:nvPr/>
        </p:nvSpPr>
        <p:spPr>
          <a:xfrm>
            <a:off x="3995640" y="1268280"/>
            <a:ext cx="42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Qui s’occupe de la mutuelle dans la Maison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95280" y="3068640"/>
            <a:ext cx="2011320" cy="27766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2228760" y="2084400"/>
            <a:ext cx="6015240" cy="4001040"/>
            <a:chOff x="2228760" y="2084400"/>
            <a:chExt cx="6015240" cy="4001040"/>
          </a:xfrm>
        </p:grpSpPr>
        <p:sp>
          <p:nvSpPr>
            <p:cNvPr id="142" name="ZoneTexte 8"/>
            <p:cNvSpPr/>
            <p:nvPr/>
          </p:nvSpPr>
          <p:spPr>
            <a:xfrm>
              <a:off x="4386240" y="2084400"/>
              <a:ext cx="3857760" cy="10994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00b050">
                  <a:alpha val="31000"/>
                </a:srgbClr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yriad Pro"/>
                </a:rPr>
                <a:t>Le Ralliemen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yriad Pro"/>
                </a:rPr>
                <a:t>10, rue Littré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yriad Pro"/>
                </a:rPr>
                <a:t>37000 TOUR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ZoneTexte 9"/>
            <p:cNvSpPr/>
            <p:nvPr/>
          </p:nvSpPr>
          <p:spPr>
            <a:xfrm>
              <a:off x="4386240" y="3512880"/>
              <a:ext cx="3857760" cy="7642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00b050">
                  <a:alpha val="31000"/>
                </a:srgbClr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yriad Pro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Myriad Pro"/>
                </a:rPr>
                <a:t>02 47 64 12 6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Myriad Pro"/>
                </a:rPr>
                <a:t>Fax </a:t>
              </a:r>
              <a:r>
                <a:rPr b="0" lang="en-US" sz="2200" spc="-1" strike="noStrike">
                  <a:solidFill>
                    <a:srgbClr val="000000"/>
                  </a:solidFill>
                  <a:latin typeface="Myriad Pro"/>
                </a:rPr>
                <a:t> 02 47 64 03 0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ZoneTexte 10"/>
            <p:cNvSpPr/>
            <p:nvPr/>
          </p:nvSpPr>
          <p:spPr>
            <a:xfrm>
              <a:off x="4386240" y="4584600"/>
              <a:ext cx="3857760" cy="7642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00b050">
                  <a:alpha val="31000"/>
                </a:srgbClr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200" spc="-1" strike="noStrike">
                  <a:solidFill>
                    <a:srgbClr val="000000"/>
                  </a:solidFill>
                  <a:latin typeface="Myriad Pro"/>
                </a:rPr>
                <a:t>E-mail</a:t>
              </a:r>
              <a:r>
                <a:rPr b="0" lang="fr-FR" sz="2200" spc="-1" strike="noStrike">
                  <a:solidFill>
                    <a:srgbClr val="000000"/>
                  </a:solidFill>
                  <a:latin typeface="Myriad Pro"/>
                </a:rPr>
                <a:t> 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Myriad Pro"/>
                </a:rPr>
                <a:t> </a:t>
              </a:r>
              <a:r>
                <a:rPr b="0" lang="fr-FR" sz="2100" spc="-1" strike="noStrike">
                  <a:solidFill>
                    <a:srgbClr val="000000"/>
                  </a:solidFill>
                  <a:latin typeface="Myriad Pro"/>
                </a:rPr>
                <a:t>mutuelle@leralliement.f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ZoneTexte 11"/>
            <p:cNvSpPr/>
            <p:nvPr/>
          </p:nvSpPr>
          <p:spPr>
            <a:xfrm>
              <a:off x="4386240" y="5656320"/>
              <a:ext cx="3857760" cy="4291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00b050">
                  <a:alpha val="31000"/>
                </a:srgbClr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200" spc="-1" strike="noStrike">
                  <a:solidFill>
                    <a:srgbClr val="000000"/>
                  </a:solidFill>
                  <a:latin typeface="Myriad Pro"/>
                </a:rPr>
                <a:t>Site :</a:t>
              </a:r>
              <a:r>
                <a:rPr b="0" lang="fr-FR" sz="2200" spc="-1" strike="noStrike">
                  <a:solidFill>
                    <a:srgbClr val="000000"/>
                  </a:solidFill>
                  <a:latin typeface="Myriad Pro"/>
                </a:rPr>
                <a:t> www.leralliement.fr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ZoneTexte 19"/>
            <p:cNvSpPr/>
            <p:nvPr/>
          </p:nvSpPr>
          <p:spPr>
            <a:xfrm>
              <a:off x="2228760" y="5684760"/>
              <a:ext cx="214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Myriad Pro"/>
                </a:rPr>
                <a:t>En constr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mutuelle-jeunes-actifs-trouvez-une-couverture-performante-id320" descr=""/>
          <p:cNvPicPr/>
          <p:nvPr/>
        </p:nvPicPr>
        <p:blipFill>
          <a:blip r:embed="rId5"/>
          <a:stretch/>
        </p:blipFill>
        <p:spPr>
          <a:xfrm rot="21061800">
            <a:off x="826560" y="2852280"/>
            <a:ext cx="2584440" cy="2584440"/>
          </a:xfrm>
          <a:prstGeom prst="rect">
            <a:avLst/>
          </a:prstGeom>
          <a:ln w="0">
            <a:noFill/>
          </a:ln>
        </p:spPr>
      </p:pic>
      <p:sp>
        <p:nvSpPr>
          <p:cNvPr id="148" name="ZoneTexte 13"/>
          <p:cNvSpPr/>
          <p:nvPr/>
        </p:nvSpPr>
        <p:spPr>
          <a:xfrm>
            <a:off x="4211640" y="1052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Comment vous joindre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1:44:39Z</dcterms:created>
  <dc:creator>Cécilia</dc:creator>
  <dc:description/>
  <dc:language>en-US</dc:language>
  <cp:lastModifiedBy>service-achat</cp:lastModifiedBy>
  <dcterms:modified xsi:type="dcterms:W3CDTF">2009-07-30T09:15:17Z</dcterms:modified>
  <cp:revision>392</cp:revision>
  <dc:subject/>
  <dc:title>Diapositive 1</dc:title>
</cp:coreProperties>
</file>